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DE26-0887-4510-B25E-21C95268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C633-17BB-4031-A39A-5FC84934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59ED-B6C4-47FD-B7E9-751EA9133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69E-2876-4C98-92E4-D87D8D84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0C92-7406-448B-B501-663A052A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D06-FB94-4E50-8FE9-B8B54206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7F1B-A851-49E7-971A-A42486A07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0620-9AAB-4143-8755-B299B293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202-C112-4E4D-8CAB-1BB60EAD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9EC-617C-48E3-96BB-1C1095B3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FA83-766E-423E-997A-FC8A120E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F1A0-DF59-4175-A2CD-84C69CB2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7960-C34E-4F24-BEAA-EA6DB58E6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igi"/>
              </a:rPr>
              <a:t>How To Make Rice-Krispie Trea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inya Nouvelle"/>
              </a:rPr>
              <a:t>Step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Minya Nouvelle"/>
              </a:rPr>
              <a:t>Gather your ingredi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ya Nouvelle"/>
              </a:rPr>
              <a:t>3 tablespoons of butter or marga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ya Nouvelle"/>
              </a:rPr>
              <a:t>1 package (10 oz., about 40) of regular marshmall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ya Nouvelle"/>
              </a:rPr>
              <a:t>- OR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ya Nouvelle"/>
              </a:rPr>
              <a:t>4 cups of miniature marshmall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ya Nouvelle"/>
              </a:rPr>
              <a:t>6 cups of Rice Kris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 the butter in a saucepan over low h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butter is melted, slowly add the marshmal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r the marshmallows until they are completely mel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ly add the Rice Krispies to the marshmal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r in until completely bl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ead mixture into sprayed cooking p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to c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into 2-inch squares and ser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2:49:46Z</dcterms:created>
  <dc:creator>tempprofile</dc:creator>
  <dc:description/>
  <dc:language>en-US</dc:language>
  <cp:lastModifiedBy>tempprofile</cp:lastModifiedBy>
  <dcterms:modified xsi:type="dcterms:W3CDTF">2010-05-04T13:18:47Z</dcterms:modified>
  <cp:revision>2</cp:revision>
  <dc:subject/>
  <dc:title>How To Make Rice-Krispie Treats</dc:title>
</cp:coreProperties>
</file>